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6.pct" ContentType="image/x-pict"/>
  <Override PartName="/ppt/media/image7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40EA2-01AD-4885-A83A-ECDA7E546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85800" y="41770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845E5-7772-4171-B2E2-6F34B8C73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770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68480" y="41770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CBCE2-D33E-4B86-9476-791F61891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685800" y="41770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313800" y="41770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941440" y="41770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5963E-DADB-41DF-9411-C6C85C901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DD260-1995-4D10-845C-16024B8F5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8D992-47EC-4279-AF6C-CE8640288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CA291-016D-40AD-B482-80E6E301C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838F3-DAF3-406A-B26B-B258EE854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3206C-E668-4C4F-A6D3-6B0E158B8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838080" y="304920"/>
            <a:ext cx="74678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AA1B5-418D-4DCE-A94F-B7E480D00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770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25703-4A2A-420B-B6CD-92EFF4522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12167-B042-41C7-9015-058A9691C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68480" y="41770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5321C-E865-4649-9991-C258EE278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1770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C6EA4-D7E5-4D0B-843D-8FD10CB2D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800" y="41770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679E8-3559-4261-9B96-490A5480A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800" y="41770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68480" y="41770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191A1-F48C-4251-ADCB-79276E593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800" y="41770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13800" y="41770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941440" y="41770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378A5-D02E-4203-BE9F-507E5D90A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7341D-C05C-4F25-BEB5-6C0886B85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14971-73E4-43E4-A7D8-2B7B0F700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BAB09-1653-4679-88EA-3DFF0516D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838080" y="304920"/>
            <a:ext cx="74678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5D092-F99E-4E18-9DCD-3EBA1CFD6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770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B87F9-9A5A-4E97-AD5E-669AF39E1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68480" y="41770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FDD74-BE22-44EF-9BDE-05CE945F3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770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5EF28-B7DE-42DC-ABB3-34F457844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762120" y="152280"/>
            <a:ext cx="7696080" cy="1067040"/>
            <a:chOff x="762120" y="152280"/>
            <a:chExt cx="7696080" cy="1067040"/>
          </a:xfrm>
        </p:grpSpPr>
        <p:sp>
          <p:nvSpPr>
            <p:cNvPr id="1" name=""/>
            <p:cNvSpPr/>
            <p:nvPr/>
          </p:nvSpPr>
          <p:spPr>
            <a:xfrm>
              <a:off x="762120" y="152280"/>
              <a:ext cx="7696080" cy="1067040"/>
            </a:xfrm>
            <a:prstGeom prst="roundRect">
              <a:avLst>
                <a:gd name="adj" fmla="val 16667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  <a:effectLst>
              <a:outerShdw dist="153753" dir="2700000" blurRad="0" rotWithShape="0">
                <a:srgbClr val="93939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981720" y="1219320"/>
              <a:ext cx="7243200" cy="0"/>
            </a:xfrm>
            <a:prstGeom prst="line">
              <a:avLst/>
            </a:prstGeom>
            <a:ln w="28440">
              <a:solidFill>
                <a:srgbClr val="eeeee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"/>
          <p:cNvGrpSpPr/>
          <p:nvPr/>
        </p:nvGrpSpPr>
        <p:grpSpPr>
          <a:xfrm>
            <a:off x="685800" y="1371600"/>
            <a:ext cx="7772400" cy="304920"/>
            <a:chOff x="685800" y="1371600"/>
            <a:chExt cx="7772400" cy="304920"/>
          </a:xfrm>
        </p:grpSpPr>
        <p:sp>
          <p:nvSpPr>
            <p:cNvPr id="4" name=""/>
            <p:cNvSpPr/>
            <p:nvPr/>
          </p:nvSpPr>
          <p:spPr>
            <a:xfrm>
              <a:off x="685800" y="1371600"/>
              <a:ext cx="7772400" cy="304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c5611"/>
                </a:gs>
                <a:gs pos="50000">
                  <a:srgbClr val="ff7518"/>
                </a:gs>
                <a:gs pos="100000">
                  <a:srgbClr val="bc5611"/>
                </a:gs>
              </a:gsLst>
              <a:lin ang="5400000"/>
            </a:gradFill>
            <a:ln w="0">
              <a:noFill/>
            </a:ln>
            <a:effectLst>
              <a:outerShdw dist="101520" dir="54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>
              <a:off x="828720" y="1390320"/>
              <a:ext cx="7496280" cy="460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7518"/>
                </a:gs>
                <a:gs pos="50000">
                  <a:srgbClr val="ffffff"/>
                </a:gs>
                <a:gs pos="100000">
                  <a:srgbClr val="ff751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751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751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751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D0B54-F182-4BAB-9B0C-28EFD894CF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0" y="76320"/>
            <a:ext cx="609480" cy="6629400"/>
          </a:xfrm>
          <a:prstGeom prst="flowChartDelay">
            <a:avLst/>
          </a:prstGeom>
          <a:solidFill>
            <a:srgbClr val="aaaaaa">
              <a:alpha val="50000"/>
            </a:srgbClr>
          </a:solidFill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"/>
          <p:cNvSpPr/>
          <p:nvPr/>
        </p:nvSpPr>
        <p:spPr>
          <a:xfrm flipH="1">
            <a:off x="8533800" y="76320"/>
            <a:ext cx="609480" cy="6629400"/>
          </a:xfrm>
          <a:prstGeom prst="flowChartDelay">
            <a:avLst/>
          </a:prstGeom>
          <a:solidFill>
            <a:srgbClr val="aaaaaa">
              <a:alpha val="50000"/>
            </a:srgbClr>
          </a:solidFill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762120" y="1676520"/>
            <a:ext cx="7696080" cy="1675800"/>
            <a:chOff x="762120" y="1676520"/>
            <a:chExt cx="7696080" cy="1675800"/>
          </a:xfrm>
        </p:grpSpPr>
        <p:sp>
          <p:nvSpPr>
            <p:cNvPr id="50" name=""/>
            <p:cNvSpPr/>
            <p:nvPr/>
          </p:nvSpPr>
          <p:spPr>
            <a:xfrm>
              <a:off x="762120" y="1676520"/>
              <a:ext cx="7696080" cy="1675800"/>
            </a:xfrm>
            <a:prstGeom prst="roundRect">
              <a:avLst>
                <a:gd name="adj" fmla="val 16667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  <a:effectLst>
              <a:outerShdw dist="153753" dir="2700000" blurRad="0" rotWithShape="0">
                <a:srgbClr val="93939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981720" y="3352320"/>
              <a:ext cx="7243200" cy="0"/>
            </a:xfrm>
            <a:prstGeom prst="line">
              <a:avLst/>
            </a:prstGeom>
            <a:ln w="28440">
              <a:solidFill>
                <a:srgbClr val="eeeee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85800" y="3505320"/>
            <a:ext cx="7772400" cy="304560"/>
            <a:chOff x="685800" y="3505320"/>
            <a:chExt cx="7772400" cy="304560"/>
          </a:xfrm>
        </p:grpSpPr>
        <p:sp>
          <p:nvSpPr>
            <p:cNvPr id="53" name=""/>
            <p:cNvSpPr/>
            <p:nvPr/>
          </p:nvSpPr>
          <p:spPr>
            <a:xfrm>
              <a:off x="685800" y="3505320"/>
              <a:ext cx="7772400" cy="304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c5611"/>
                </a:gs>
                <a:gs pos="50000">
                  <a:srgbClr val="ff7518"/>
                </a:gs>
                <a:gs pos="100000">
                  <a:srgbClr val="bc5611"/>
                </a:gs>
              </a:gsLst>
              <a:lin ang="5400000"/>
            </a:gradFill>
            <a:ln w="0">
              <a:noFill/>
            </a:ln>
            <a:effectLst>
              <a:outerShdw dist="101520" dir="54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828720" y="3522960"/>
              <a:ext cx="7496280" cy="45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7518"/>
                </a:gs>
                <a:gs pos="50000">
                  <a:srgbClr val="ffffff"/>
                </a:gs>
                <a:gs pos="100000">
                  <a:srgbClr val="ff751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2057400"/>
            <a:ext cx="7391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751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5E1D2-C437-4195-BFC2-48153E4828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0" y="76320"/>
            <a:ext cx="609480" cy="6629400"/>
          </a:xfrm>
          <a:prstGeom prst="flowChartDelay">
            <a:avLst/>
          </a:prstGeom>
          <a:solidFill>
            <a:srgbClr val="aaaaaa">
              <a:alpha val="50000"/>
            </a:srgbClr>
          </a:solidFill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8533800" y="76320"/>
            <a:ext cx="609480" cy="6629400"/>
          </a:xfrm>
          <a:prstGeom prst="flowChartDelay">
            <a:avLst/>
          </a:prstGeom>
          <a:solidFill>
            <a:srgbClr val="aaaaaa">
              <a:alpha val="50000"/>
            </a:srgbClr>
          </a:solidFill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7518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ct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ct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ct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8080" y="2057400"/>
            <a:ext cx="7391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7518"/>
                </a:solidFill>
                <a:latin typeface="Arial"/>
              </a:rPr>
              <a:t>The French Revolution</a:t>
            </a: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Radical Ph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7518"/>
                </a:solidFill>
                <a:latin typeface="Arial"/>
              </a:rPr>
              <a:t>National Convention</a:t>
            </a: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millian Robespier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732200" y="1828800"/>
            <a:ext cx="364176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7518"/>
                </a:solidFill>
                <a:latin typeface="Arial"/>
              </a:rPr>
              <a:t>National Convention</a:t>
            </a: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acques Dant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4648320" y="1925640"/>
            <a:ext cx="3809880" cy="43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518"/>
                </a:solidFill>
                <a:latin typeface="Arial"/>
              </a:rPr>
              <a:t>Trial &amp; Execution of Louis XVI</a:t>
            </a:r>
            <a:endParaRPr b="0" lang="en-US" sz="40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as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uil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vided over punish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ears of civil w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4648320" y="2876400"/>
            <a:ext cx="3809880" cy="239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7518"/>
                </a:solidFill>
                <a:latin typeface="Arial"/>
              </a:rPr>
              <a:t>The Death of Marat</a:t>
            </a: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2292480" y="1676520"/>
            <a:ext cx="49752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7518"/>
                </a:solidFill>
                <a:latin typeface="Arial"/>
              </a:rPr>
              <a:t>State of Emergency</a:t>
            </a: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ittee for Public Safe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emies of the St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rror is a Virtue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trials - just execu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oal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751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 the Wars - home and abro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751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eed the peo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8080" y="2057400"/>
            <a:ext cx="7391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7518"/>
                </a:solidFill>
                <a:latin typeface="Arial"/>
              </a:rPr>
              <a:t>What powers should the government have in times of emergency?</a:t>
            </a: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more important - the rights of the individual of our collective need for security and safety?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7518"/>
                </a:solidFill>
                <a:latin typeface="Arial"/>
              </a:rPr>
              <a:t>FLQ Crisis in Canada</a:t>
            </a: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ctober 197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ar Measures A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7518"/>
                </a:solidFill>
                <a:latin typeface="Arial"/>
              </a:rPr>
              <a:t>9/11 &amp; the “War on Terror”</a:t>
            </a: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A Patriot A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Certificates or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mergencies Ac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 Cana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7518"/>
                </a:solidFill>
                <a:latin typeface="Arial"/>
              </a:rPr>
              <a:t>Key Questions</a:t>
            </a: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er what circumstances should the government be allowed to suspend your right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far would you take thi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g. - Is torture ever justifie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mprisonment without tria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dividual rights or Collective Securit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7518"/>
                </a:solidFill>
                <a:latin typeface="Arial"/>
              </a:rPr>
              <a:t>Overview of Phases</a:t>
            </a: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revolution is a full circ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7518"/>
                </a:solidFill>
                <a:latin typeface="Arial"/>
              </a:rPr>
              <a:t>Legislative Assembly</a:t>
            </a: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1687680" y="1828800"/>
            <a:ext cx="57672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7518"/>
                </a:solidFill>
                <a:latin typeface="Arial"/>
              </a:rPr>
              <a:t>House of Commons</a:t>
            </a: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1643040" y="1828800"/>
            <a:ext cx="585792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7518"/>
                </a:solidFill>
                <a:latin typeface="Arial"/>
              </a:rPr>
              <a:t>Political Parties</a:t>
            </a: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euillant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 moderates who supported the constitutional monarchy, many no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Jacobin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 Extremist republicans who wanted to extend the revolu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rdelliers, Girondins, &amp; other smaller par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7518"/>
                </a:solidFill>
                <a:latin typeface="Arial"/>
              </a:rPr>
              <a:t>France’s Problems</a:t>
            </a: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ushing De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or, hungry peo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vided Countr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751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ld power vs new pow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eign Wa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751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ance was losing = poor people dy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cooperative Govern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751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uis and Assembly not coopera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7518"/>
                </a:solidFill>
                <a:latin typeface="Arial"/>
              </a:rPr>
              <a:t>Musical Chairs</a:t>
            </a: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litical parties reposition themselves in order to gain popularity with vo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1793 that meant being more extre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751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treme solutions to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751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treme opposition to the govern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7518"/>
                </a:solidFill>
                <a:latin typeface="Arial"/>
              </a:rPr>
              <a:t>Louis the Letter-writer</a:t>
            </a: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riting letters to foreign monarchs encouraging them to go to war against Fr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751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is crucial to understanding why the Legislative Assembly phase ends and the radical phase begi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7518"/>
                </a:solidFill>
                <a:latin typeface="Arial"/>
              </a:rPr>
              <a:t>Flight of the Royals</a:t>
            </a: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uis tries to flee with his fami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rested and moved to palace at Tuil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gust 1793 - attack on the Roy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uis deposed as King, arres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Constitution writt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elections he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cobins win ele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2T00:33:43Z</dcterms:created>
  <dc:creator>Greg Peters</dc:creator>
  <dc:description/>
  <dc:language>en-US</dc:language>
  <cp:lastModifiedBy>Greg Peters</cp:lastModifiedBy>
  <dcterms:modified xsi:type="dcterms:W3CDTF">2011-02-22T02:25:41Z</dcterms:modified>
  <cp:revision>1</cp:revision>
  <dc:subject/>
  <dc:title>The French Revolution</dc:title>
</cp:coreProperties>
</file>